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53A-FDE1-4AA2-B5D4-BE9F7CB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F90-3D93-41D4-ACF1-672A92AF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DF3-5F1D-4B52-9E84-C392431C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263-2675-42D5-B270-24FE8F7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A39-1D16-42FC-9335-8D79FBC0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E42-FD36-4B9B-8881-5B9CDE6F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57C-710E-4127-97C8-49CFB38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460-99C2-486B-930D-94BC7238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F5E-ED94-42B0-80E8-D820C308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F35-49F3-42DA-88B7-05B94D1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3B6-4938-4DFF-88ED-04AEC27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6F3-CC3C-4352-9A36-5C017CF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169D-0D1E-4B94-A045-EE7DDEF7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.mit.edu/invent/iow/burban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15200" y="5486400"/>
            <a:ext cx="1828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7 com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457200"/>
            <a:ext cx="67820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IDAHO POTATO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4800600"/>
            <a:ext cx="2579400" cy="139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795680" cy="14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81480" y="1828800"/>
            <a:ext cx="152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1560" cy="41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52680" y="4724280"/>
            <a:ext cx="30481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, mit,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Idaho Pot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urbank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potatoes we wouldn’t have fries chips or other potato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; Idaho Po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alled the Russet Burbank potato before Ida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between potatoes and native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ed Ireland from its potato b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; Luther Bur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was 21 he bought 17 acres of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ross bred potatoes and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a book called how plants are treated to work for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nly had a  elementary school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on 1841 and died on 19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tons of other potatoe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4:14Z</dcterms:created>
  <dc:creator>install</dc:creator>
  <dc:description/>
  <dc:language>en-US</dc:language>
  <cp:lastModifiedBy>install</cp:lastModifiedBy>
  <dcterms:modified xsi:type="dcterms:W3CDTF">2011-01-14T16:59:38Z</dcterms:modified>
  <cp:revision>10</cp:revision>
  <dc:subject/>
  <dc:title>Slide 1</dc:title>
</cp:coreProperties>
</file>